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A37E-5032-4FBB-9F9C-91782E95D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CD8E-11EF-4E4A-9C5F-63E608C98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155E-C8A7-4700-9061-E545F26A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48E9-23F9-4E97-BF17-FDC33AAC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04E3-6A1F-43E1-856E-3102600FE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BC64-829A-4E8A-B9AC-C0CA8EED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5741-FCAD-4B4F-BFF8-3A05AA54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196B-E74C-4E72-BA99-EE16054A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FE5B-6489-403B-9F7F-B595157D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88F5-4ED8-42ED-9C6F-2C2593DB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2C5E-3941-48FD-A849-E89D1712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818B-1B31-4AC1-B910-3A764929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4641-6DDD-438C-8764-260F0542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F27-C4CA-4929-842D-A9D0A7A2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8E36-D224-4BF2-A338-26FF0FE39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yat Hussei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yat Husseini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yat Hussein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yat Husseini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migas! ¿Qué quieres? ¿De donde eres? Tengo que estudar, adios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5627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llamo Ayat. Vivo en New York. Yo tengo catorce años. Tengo dos hermanos, una hermana y un hermano. Yo soy bonita. Estoy feliz y enérgica. Adios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208080" y="5022720"/>
            <a:ext cx="650880" cy="951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2189160" y="334656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334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2109960" y="6168960"/>
            <a:ext cx="554040" cy="792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5102280"/>
            <a:ext cx="451080" cy="6397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334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4565520"/>
            <a:ext cx="577800" cy="8352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3886200"/>
            <a:ext cx="38098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as tardes! Jajaja, todos tienemos catorce añ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u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3276720"/>
            <a:ext cx="380988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oy de donde Mexico. ¿Cuánto años tie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2514600"/>
            <a:ext cx="380988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os dias! Soy quiero dulces! Soy de donde Hol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rial"/>
              </a:rPr>
              <a:t>Buenas noches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743200" y="4572000"/>
            <a:ext cx="38098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ola! ¿Cómo eres Carmela? Te amo Rhahmina,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rmela. Hay graciosas. Yo camino para la escul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9" descr="Photo on 2011-10-21 at 13.53 #2.jpg"/>
          <p:cNvPicPr/>
          <p:nvPr/>
        </p:nvPicPr>
        <p:blipFill>
          <a:blip r:embed="rId7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7"/>
          <p:cNvSpPr/>
          <p:nvPr/>
        </p:nvSpPr>
        <p:spPr>
          <a:xfrm>
            <a:off x="2743200" y="5334120"/>
            <a:ext cx="38098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rial"/>
              </a:rPr>
              <a:t>Ella esta y simpatica y muy dulce.Espero comer past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2" descr="Photo on 2011-10-21 at 13.46.jpg"/>
          <p:cNvPicPr/>
          <p:nvPr/>
        </p:nvPicPr>
        <p:blipFill>
          <a:blip r:embed="rId8"/>
          <a:stretch/>
        </p:blipFill>
        <p:spPr>
          <a:xfrm>
            <a:off x="2109960" y="3882960"/>
            <a:ext cx="657000" cy="944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743200" y="6019920"/>
            <a:ext cx="38098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3" descr="Photo on 2011-11-29 at 13.54.jpg"/>
          <p:cNvPicPr/>
          <p:nvPr/>
        </p:nvPicPr>
        <p:blipFill>
          <a:blip r:embed="rId9"/>
          <a:stretch/>
        </p:blipFill>
        <p:spPr>
          <a:xfrm>
            <a:off x="838080" y="57913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2"/>
          <p:cNvSpPr/>
          <p:nvPr/>
        </p:nvSpPr>
        <p:spPr>
          <a:xfrm>
            <a:off x="790560" y="632448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2T14:49:30Z</dcterms:created>
  <dc:creator>FriscoISD</dc:creator>
  <dc:description/>
  <dc:language>en-US</dc:language>
  <cp:lastModifiedBy>NYCDOE</cp:lastModifiedBy>
  <dcterms:modified xsi:type="dcterms:W3CDTF">2013-01-02T15:12:28Z</dcterms:modified>
  <cp:revision>114</cp:revision>
  <dc:subject/>
  <dc:title>Profile</dc:title>
</cp:coreProperties>
</file>